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D49-EF61-4E60-839F-252EA4D4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C18-868D-49F9-8B7D-3052FAFE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364-0988-4DCC-B7E0-46F73857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AF0-006E-4EFA-9BD3-3ED79AFD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4D49-7BE5-4FEE-A238-282460FD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7A09-15DA-402C-B5F9-9CD26BE9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E6AA-F6E3-4FD3-A4FE-3C73B312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FCE0-626B-46A1-A2F3-9758C69A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02EE-F26A-4CD6-A3C3-51C7CF7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5DB8-58D3-4EFF-8889-014708F1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3A69-8A7B-434F-83B6-DF50F05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900-8175-451F-AE7A-E9362E05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CC98-0BC1-4473-967D-E13AE249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0ABA-A04E-463E-99E8-F2BA31C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5159-16A4-4662-97A2-EE007E9E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8B1F-A553-4D45-AE87-596E6FBE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0120-2A94-431C-9DD4-40CA1A3F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B15-A207-446F-BC11-0074778C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371-B032-4190-A378-DCEAAA28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4CA-E6B2-4191-A165-F4412794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ED3-2FCE-40F3-AD19-78A83C5A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2BA-9A8F-450B-9E87-3EB635C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238-0FEF-4440-BB46-782F9D6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7B6-50B9-40B1-99DC-4F07205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29DC-CA38-4F72-AAE3-6AE0121DAB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F8E3-225C-44CA-BE46-09338A0FC4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133640"/>
            <a:ext cx="76197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0:08:15Z</dcterms:created>
  <dc:creator>Student</dc:creator>
  <dc:description/>
  <dc:language>en-US</dc:language>
  <cp:lastModifiedBy>Student</cp:lastModifiedBy>
  <dcterms:modified xsi:type="dcterms:W3CDTF">2012-07-12T01:12:16Z</dcterms:modified>
  <cp:revision>2</cp:revision>
  <dc:subject/>
  <dc:title>Slide 1</dc:title>
</cp:coreProperties>
</file>